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1.pct" ContentType="image/x-pict"/>
  <Override PartName="/ppt/media/image6.pct" ContentType="image/x-pict"/>
  <Override PartName="/ppt/media/image10.pct" ContentType="image/x-pict"/>
  <Override PartName="/ppt/media/image5.pct" ContentType="image/x-pict"/>
  <Override PartName="/ppt/media/image23.pct" ContentType="image/x-pict"/>
  <Override PartName="/ppt/media/image22.pct" ContentType="image/x-pict"/>
  <Override PartName="/ppt/media/image4.pct" ContentType="image/x-pict"/>
  <Override PartName="/ppt/media/image21.pct" ContentType="image/x-pict"/>
  <Override PartName="/ppt/media/image19.pct" ContentType="image/x-pict"/>
  <Override PartName="/ppt/media/image3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41D6-818E-47FB-A45D-68CA89AA5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E448-3292-46FF-A592-E79F89B5D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B66C-1068-4329-97EC-F36FD9312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10C6-CBFB-477A-A701-68922A7AA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0107B-3E24-48FD-89E0-07BB523F3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A323D-7C8F-4549-9D2A-576BEA385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6C440-78EE-47A9-8432-2C7097C44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E02A4-F327-4FCE-8AFF-AADCDABFE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DB7B0-4D26-414F-AD0B-1CBA773B4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50FFF-6428-4DDC-96AE-4EEF762A5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633D2-52A0-43C5-BC35-B45E8F3CC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E201-480D-49E6-9AA3-F196C1725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E7E87-0E03-4554-934C-D41B0B8A4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4B9A7-C62B-4562-AF03-1EB2D5B2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BBCD7-3D73-48DD-9B7B-1CB0889B2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D12AB-4828-4F84-8869-CC1F43932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1A411-7414-430F-9EF5-365DDB85C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F529-F6BD-48EE-81AC-352F25E85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32CE-E9B6-4F82-BEEC-AD0719083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047F-8489-4381-B022-B40EB1D91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778B-3EB8-48BA-8953-126AAFBDB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4B8D-FAEC-41AE-9420-677497493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003C-4445-4F88-8177-032259B5E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152A-7025-4E3A-954B-0783351B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C Futura Casu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CAC Futur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C Futura Casu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CAC Futura Casu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C Futura Casual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CAC Futur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C Futura Casual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CAC Futura Casu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C Futura Casual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CAC Futura Casu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C Futura Casual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CAC Futura Casu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C Futura Casual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CAC Futura Casu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C Futura Casual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C Futura Casu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C Futura Casu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C Futura Casu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C Futura Casu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C Futura Casu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FC454-58AF-47CE-9BB1-0DC01F86AE05}" type="slidenum">
              <a:rPr b="0" lang="en-US" sz="1800" spc="-1" strike="noStrike">
                <a:solidFill>
                  <a:srgbClr val="000000"/>
                </a:solidFill>
                <a:latin typeface="CAC Futura Casu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C Futura Casual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C Futura Casu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C Futura Casu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C Futura Casu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C Futura Casu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C Futura Casu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1E9B6-8D65-49C8-969A-AC84B602A02D}" type="slidenum">
              <a:rPr b="0" lang="en-US" sz="1400" spc="-1" strike="noStrike">
                <a:solidFill>
                  <a:srgbClr val="000000"/>
                </a:solidFill>
                <a:latin typeface="CAC Futura Casu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C Futura Casual"/>
              </a:rPr>
              <a:t>Click to edit the outline text format</a:t>
            </a:r>
            <a:endParaRPr b="0" lang="en-US" sz="4400" spc="-1" strike="noStrike">
              <a:solidFill>
                <a:srgbClr val="000000"/>
              </a:solidFill>
              <a:latin typeface="CAC Futura Casual"/>
            </a:endParaRPr>
          </a:p>
          <a:p>
            <a:pPr lvl="1" marL="40680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C Futura Casu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AC Futura Casual"/>
            </a:endParaRPr>
          </a:p>
          <a:p>
            <a:pPr lvl="2" marL="813600" algn="ctr">
              <a:spcBef>
                <a:spcPts val="799"/>
              </a:spcBef>
              <a:buClr>
                <a:srgbClr val="000000"/>
              </a:buClr>
              <a:buFont typeface="CAC Futura Casu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C Futura Casu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C Futura Casual"/>
            </a:endParaRPr>
          </a:p>
          <a:p>
            <a:pPr lvl="3" marL="1220400" algn="ctr">
              <a:spcBef>
                <a:spcPts val="700"/>
              </a:spcBef>
              <a:buClr>
                <a:srgbClr val="000000"/>
              </a:buClr>
              <a:buFont typeface="CAC Futura Casu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C Futura Casu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C Futura Casual"/>
            </a:endParaRPr>
          </a:p>
          <a:p>
            <a:pPr lvl="4" marL="1627560" algn="ctr">
              <a:spcBef>
                <a:spcPts val="700"/>
              </a:spcBef>
              <a:buClr>
                <a:srgbClr val="000000"/>
              </a:buClr>
              <a:buFont typeface="CAC Futura Casu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C Futura Casu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C Futura Casual"/>
            </a:endParaRPr>
          </a:p>
          <a:p>
            <a:pPr lvl="5" marL="1627560">
              <a:spcBef>
                <a:spcPts val="700"/>
              </a:spcBef>
              <a:buClr>
                <a:srgbClr val="000000"/>
              </a:buClr>
              <a:buFont typeface="CAC Futura Casu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C Futura Casu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C Futura Casual"/>
            </a:endParaRPr>
          </a:p>
          <a:p>
            <a:pPr lvl="6" marL="1627560">
              <a:spcBef>
                <a:spcPts val="700"/>
              </a:spcBef>
              <a:buClr>
                <a:srgbClr val="000000"/>
              </a:buClr>
              <a:buFont typeface="CAC Futura Casu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C Futura Casu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C Futura Casu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ct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ct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ct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ct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ct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ct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ct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 Rounded MT Bold"/>
              </a:rPr>
              <a:t>Adding Integers</a:t>
            </a:r>
            <a:endParaRPr b="0" lang="en-US" sz="80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952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CAC Futura Casual"/>
            </a:endParaRPr>
          </a:p>
        </p:txBody>
      </p:sp>
      <p:sp>
        <p:nvSpPr>
          <p:cNvPr id="84" name=""/>
          <p:cNvSpPr/>
          <p:nvPr/>
        </p:nvSpPr>
        <p:spPr>
          <a:xfrm>
            <a:off x="3311640" y="1962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Rounded MT Bold"/>
              </a:rPr>
              <a:t>Example:</a:t>
            </a: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09480" y="2209680"/>
            <a:ext cx="7667640" cy="12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Rounded MT Bold"/>
              </a:rPr>
              <a:t>Example:</a:t>
            </a: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066680" y="2209680"/>
            <a:ext cx="6505560" cy="12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Rounded MT Bold"/>
              </a:rPr>
              <a:t>Example:</a:t>
            </a: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219320" y="2514600"/>
            <a:ext cx="642924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Rounded MT Bold"/>
              </a:rPr>
              <a:t>Example:</a:t>
            </a: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04920" y="2438280"/>
            <a:ext cx="833436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Rounded MT Bold"/>
              </a:rPr>
              <a:t>Example:</a:t>
            </a: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33520" y="2362320"/>
            <a:ext cx="800388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Rounded MT Bold"/>
              </a:rPr>
              <a:t>Example:</a:t>
            </a: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80880" y="2286000"/>
            <a:ext cx="8251920" cy="8636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295280" y="3048120"/>
            <a:ext cx="6248520" cy="27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Rounded MT Bold"/>
              </a:rPr>
              <a:t>Example:</a:t>
            </a: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85800" y="1905120"/>
            <a:ext cx="76960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Rounded MT Bold"/>
              </a:rPr>
              <a:t>Example:</a:t>
            </a: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762120" y="1828800"/>
            <a:ext cx="7543800" cy="43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Rounded MT Bold"/>
              </a:rPr>
              <a:t>Example:</a:t>
            </a: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09480" y="2133720"/>
            <a:ext cx="792504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Rounded MT Bold"/>
              </a:rPr>
              <a:t>Example:</a:t>
            </a: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8454960" cy="26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Rounded MT Bold"/>
              </a:rPr>
              <a:t>Example:</a:t>
            </a: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09480" y="2590920"/>
            <a:ext cx="738216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Rounded MT Bold"/>
              </a:rPr>
              <a:t>Example:</a:t>
            </a: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990720"/>
            <a:ext cx="419904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Rounded MT Bold"/>
              </a:rPr>
              <a:t>Example:</a:t>
            </a: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80880" y="2209680"/>
            <a:ext cx="8534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Rounded MT Bold"/>
              </a:rPr>
              <a:t>Example:</a:t>
            </a: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609480" y="2133720"/>
            <a:ext cx="835344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Rounded MT Bold"/>
              </a:rPr>
              <a:t>Example:</a:t>
            </a: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914400" y="2514600"/>
            <a:ext cx="7238880" cy="15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Rounded MT Bold"/>
              </a:rPr>
              <a:t>Example:</a:t>
            </a: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2286000"/>
            <a:ext cx="8480520" cy="13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Rounded MT Bold"/>
              </a:rPr>
              <a:t>Example:</a:t>
            </a: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09480" y="2362320"/>
            <a:ext cx="797256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Rounded MT Bold"/>
              </a:rPr>
              <a:t>Example:</a:t>
            </a: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28600" y="2286000"/>
            <a:ext cx="83977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Rounded MT Bold"/>
              </a:rPr>
              <a:t>Example:</a:t>
            </a: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85800" y="2286000"/>
            <a:ext cx="759780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Rounded MT Bold"/>
              </a:rPr>
              <a:t>Example:</a:t>
            </a: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09480" y="2286000"/>
            <a:ext cx="7477200" cy="11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Rounded MT Bold"/>
              </a:rPr>
              <a:t>Example:</a:t>
            </a:r>
            <a:endParaRPr b="0" lang="en-US" sz="5400" spc="-1" strike="noStrike">
              <a:solidFill>
                <a:srgbClr val="000000"/>
              </a:solidFill>
              <a:latin typeface="CAC Futura Casu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04920" y="2362320"/>
            <a:ext cx="8610480" cy="10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5T14:20:22Z</dcterms:created>
  <dc:creator>nshastry</dc:creator>
  <dc:description/>
  <dc:language>en-US</dc:language>
  <cp:lastModifiedBy>PSD</cp:lastModifiedBy>
  <dcterms:modified xsi:type="dcterms:W3CDTF">2009-09-18T18:52:22Z</dcterms:modified>
  <cp:revision>6</cp:revision>
  <dc:subject/>
  <dc:title>Learning to Write</dc:title>
</cp:coreProperties>
</file>